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4B007-DB10-4456-BFF1-3A361A4B6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71760-4920-41E6-B8EF-8F633E4E0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125-C9FA-43CA-B94B-375668C3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AAC-15F8-422B-A936-D1823790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32F-12CC-41B3-84B8-7089D4CB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838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704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43D-195A-407B-864E-5CC10CEE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56B-912C-4605-8EFC-3902129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042-A123-4485-ADE1-8EC34453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9C7-757D-4786-9F8A-9FB4F3C7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C82-53A2-4262-99A7-73CCCF9B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5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87B-C1DB-4EB4-8208-4D580AC7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BE2-C420-496D-8D0F-50D45C5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704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92F-4AA1-4F2B-96F1-6B85786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838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04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3C0-7B20-483E-9C16-71E3CF3A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 307 Fundamentals of 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4008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Basics - Exceptions and Fi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D86-D6DA-418A-BE03-306A2D5AB77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jdk14/docs/api/java/lang/String.html" TargetMode="External"/><Relationship Id="rId2" Type="http://schemas.openxmlformats.org/officeDocument/2006/relationships/hyperlink" Target="file:///../../jdk14/docs/api/java/io/FileNotFoundException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BA13-4E0F-4C4F-8B73-B62D4DCADC7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ceptions-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rrors and Error handling.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519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457200" y="1676520"/>
            <a:ext cx="8686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ESSON 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 ar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Various type of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ow to handl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CEPTIONS (in 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erarchy of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reating exce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revent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8F1-7F65-486D-9BB7-22F767F12A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quired Error Handling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ll a method that can generate a checked exception you must choose how to deal with that possibl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one class for reading from files is the FileReader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leReade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urier New"/>
                <a:hlinkClick r:id="rId1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 fileName) throw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urier New"/>
                <a:hlinkClick r:id="rId2"/>
              </a:rPr>
              <a:t>FileNotFound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structor has the possibility of throw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eNotFound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hecked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C80-D4AD-432C-8635-DBF23ED82F3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ed Exceptions in Co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code that tries to build a FileReader we must deal with the possibility of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contains a syntax error. "unreported exception java.io.FileNotFoundException; must be caught or declared to be thrown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16120" y="1503360"/>
            <a:ext cx="7495920" cy="35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io.FileRea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countChars(String file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rea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0096-B8F2-4126-A9A7-4C4C68741F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ndling Checked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de on the previous slide there are in fact 4 statements that can generate checked excep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Reader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dy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s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al with the exceptions we can either state this method throws an Exception of the proper type or handle the exception within the method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AD6-3015-40CF-93C7-586AD620653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thods that throw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 that we don't know how to deal with an error within the method that can gener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 we will pass the buck to the method that call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to indicate a method has the possibility of generating an exception of the state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y method calling ours must also throw an exception or handl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7BF-D6A5-4D48-9AB0-77D45BE2E3B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th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Keywo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46240" y="835200"/>
            <a:ext cx="859320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untChars(String fileNam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s FileNotFoundException, IO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read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240" y="5105520"/>
            <a:ext cx="75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y method calling ours must als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hrow an exception or handl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8D71-9797-49F9-8DEC-35B444C4279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sing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-c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Block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handle the a checked exception locally then use use the keyword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that could cause an exception is placed in a block of code preceded by 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that will handle the exception if it occurs is placed in a block of code preceded by the keywor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FF71-370F-4BDC-AEE8-7B01B261EF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mple </a:t>
            </a: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urier New"/>
              </a:rPr>
              <a:t>catc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Block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70000" y="544680"/>
            <a:ext cx="8562600" cy="578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untChars(String file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.rea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FileNotFoundException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ile named "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fileName + "not found. "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OException occured 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while counting chars. " +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7D02-B7FE-4AB5-B341-49150262C10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chanics of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atch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that could cause the checked exception is placed in a try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how the statements are included in one try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ment could be in a separate try block with an associated catch block, but that is very unwieldy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ry block must have 1 or more associated catch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here to handle the error. In this case we just print out the error and set result to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A0C-3B80-4674-90DE-B049E402806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cky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Blo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00" y="723960"/>
            <a:ext cx="932472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int countChars3(String fileNa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Reader r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 = new FileReader(fileName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FileNotFound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File named 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fileName + "not found. " + 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.read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IOException 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occurred while counting "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chars. " + 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 System.out.println("IOException occurred while counting chars. " + e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 r.clo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     System.out.println("IOException occurred while counting chars. " + e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955-FFC1-4675-B109-CCB0BA8203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try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Mechani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ecide to handle the possible exception locally in a method with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you must have a correspond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s have a parameter list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meter must b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a descendant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ultip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s with on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lock in case of multiple types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F2E4-278E-4DA6-8789-021BF723AC2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n Good Programs Go Ba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ety of errors can occur when a program is running.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al) user input error. bad 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errors. remote server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limitations. ful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rrors. interact with code that does not fulfill its contact (pre and post condi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error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safe state, save work, exit grac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handling code may be far removed from code that caused th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7FC-D98E-4374-8E4F-23B49281FB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at Happens When Exceptions Occu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exception is thrown then the normal flow of control of a program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executing the regular statements the Java Runtime System starts to search for a matching cat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atching catch block based on data type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atch block code is completed the program does not "go back" to where the exception occur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finds the next regular statement after the catch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E12D-59C5-4D17-8FBE-B619EFAE5E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unting Chars Agai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countChars(String file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otal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Reader r = new FileReader(fileN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r.ready(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read();// what happens in an exception occu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FileNotFoundException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File named "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fileName + "not found. " + 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ch(IOException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OException occured "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while counting chars. " + 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 = -1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o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14D5-7BB2-4AD9-A8E5-5532BE172D5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rowing Exceptions Yourself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sh to throw an exception in your code you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r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would be for an unmet pre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8760" y="2314440"/>
            <a:ext cx="8715240" cy="385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MyRadi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** pre: radius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ircle(int radi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adius &lt;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llegalArgumentExce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"radius must be &gt; 0.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"Value of radius: " + radiu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yRadius = radi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27FC-6C7A-4524-9688-2095AB56A9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dance Question 2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8991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output by th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d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it is called with the following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nums = {3, 2, 6, 1}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adUse( nums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adUse(int[] vals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int total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try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for(int i = 0; i &lt; vals.length; i++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int index = vals[i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total += vals[index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catch(Exception e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total = -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tota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3212-2BC6-45DB-8BDB-63AC01BFC79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dance Question 3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use of a try-catch block on the previous question a proper use of try-catch bloc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82AF-C035-48DA-BB45-2EEDAFF6F23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rror Handling, Error Handling Everywhere!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ms like a lot of choices for error prevention and error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program logic, e.g. if’s for loop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– cat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it appropriate to use each k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5C41-2E50-441B-B3C5-FE7EF2E297F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 Preven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program logic, (ifs , fors) to prev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gic 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unchecked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eferencing a null pointer, going outside the bounds of an array, violating the preconditions of a method you are calling. e.g.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ssertions as checks on you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hecked to ensure the variabl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within the array bounds with an if 10 lines up in the program and you are SURE you didn’t alter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ght before you actually access the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inbounds(index) 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  // lots of related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// use an assertion before ac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Var[index] = foo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C114-9908-4A9D-81D0-4925A93D742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or Preven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ry/catch blocks on checked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lace it is reasonable to use try / catch is in testing sui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each test in a try / catch. If an exception occurs that test fails, but other tests can still b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F2A-628A-4A1F-ABEA-2BF09946E8B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to Handle Errors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possible to detect and handle errors of various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this complicates the code and makes it harder to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rror detection and error handling code have little or nothing to do with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de is trying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adeoff between ensuring correct behavior under all possible circumstances and clarity of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AE52-F640-4307-A2C3-D26B4AE72A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xception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anguages, including Java use a mechanism know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handle errors at 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 Exception is a class with many descend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IndexOutOfBounds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llPointer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NotFound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ithmetic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egalArgument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C6BA-4877-449D-942E-9C5BAC810A3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rtial Exceptions Hierarch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650400" y="826920"/>
            <a:ext cx="184176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w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528640" y="2766960"/>
            <a:ext cx="211932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121360" y="2766960"/>
            <a:ext cx="306864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46480" y="3879720"/>
            <a:ext cx="1821960" cy="398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OF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666880" y="3879720"/>
            <a:ext cx="175284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NotF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985120" y="5162400"/>
            <a:ext cx="131148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433760" y="5216400"/>
            <a:ext cx="1425960" cy="70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Poin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185160" y="5216400"/>
            <a:ext cx="129924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Bou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7709040" y="5216400"/>
            <a:ext cx="1299240" cy="1008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809880" y="2320920"/>
            <a:ext cx="3049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V="1">
            <a:off x="2286000" y="331128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3886200" y="331128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 flipH="1" flipV="1">
            <a:off x="5181480" y="23209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4114800" y="3311640"/>
            <a:ext cx="121932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 flipV="1">
            <a:off x="5181480" y="3387600"/>
            <a:ext cx="60984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H="1" flipV="1">
            <a:off x="6629040" y="3311280"/>
            <a:ext cx="15228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H="1" flipV="1">
            <a:off x="7772400" y="3311280"/>
            <a:ext cx="533520" cy="190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306720" y="4724280"/>
            <a:ext cx="22183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n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, m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1462680" y="1676520"/>
            <a:ext cx="97164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727440" y="1752480"/>
            <a:ext cx="1744200" cy="52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 flipV="1">
            <a:off x="2209680" y="1371240"/>
            <a:ext cx="16002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 flipH="1" flipV="1">
            <a:off x="4876560" y="137160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D768-4D47-4BCA-95C9-60838633D2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program runs, if a situation occurs that is handled by exceptions then an Exception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ception object of the proper type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of control is transferred from the current block of code to code that can handle or deal with the 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rmal flow of the program stops and error handling code takes over (if it exist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BCE9-C9F1-4016-8F07-87AB755954C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ttendance Question 1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ossible for the following method to result in an exce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pre: word != 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Length(String word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String output = "Word length is " + word.length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System.out.println( output 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BC3-8186-4D78-BAAF-034C71FA5CC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nchecked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 in Java fall into two differen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cked (other than Runtime) and unchecked (Run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hecked exceptions a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letely preven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hould never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caused by logic errors, created by us, the program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ents of the RuntimeExceptio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ArrayIndexOutOfBoundsException, NullPointerException, Arithmetic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doe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e special error handl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regular error preven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rror handling code was required programs would be unwieldy because so many Java statements have the possibility of generating or causing an unchecked 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E9C-573D-42BC-A7F6-647D8C879E6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hecked Exce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Checked exceptions represent conditions that, although exceptional, can reasonably be expected to occur, and if they do occur must be dealt with in some way.[other than the program terminating.]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va Programming Language third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hecked exceptions are due to a programming logic error, our fault and preventable if cod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arlett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d exceptions represent errors that are unpreventable by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 - Exceptions and error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19:12:00Z</dcterms:created>
  <dc:creator>Mike Scott</dc:creator>
  <dc:description/>
  <dc:language>en-US</dc:language>
  <cp:lastModifiedBy>mnicholas</cp:lastModifiedBy>
  <dcterms:modified xsi:type="dcterms:W3CDTF">2012-01-15T09:26:21Z</dcterms:modified>
  <cp:revision>77</cp:revision>
  <dc:subject/>
  <dc:title>PowerPoint Presentation</dc:title>
</cp:coreProperties>
</file>